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A1A1-D322-45E7-AF97-DD267C8DF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D5F7-9CEC-45BA-B895-03D88D2DC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2002-AAC4-4C6F-BBB4-CABABF609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7E91-7A0A-4D18-865E-E93B0396E7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6C00-F7B3-44E6-A435-3FDCA72D0B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CDBB-16BC-4794-87E2-81B3DEBB8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D3D2-8AF5-4CB7-9E3F-4B1AD4644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8990C-A3FC-4A05-B8AB-9BDE6A752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E619-06C6-407F-98D8-241296BBB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CF016-CBE0-4CF5-8BE7-D308721BA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FF1D-3625-4264-B869-FF46C882C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7DBC-BF4E-4B06-9229-66F7136CE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6B4B-FACA-4819-920A-DCF24E5B19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youtu.be/PRIlnUAKwDY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3192-666C-4670-AEFC-FC1F7C97D3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7720" y="27428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Algebraic Thinking -Aug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s Work wit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notice about the student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providing feedback what was discussed at your 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you decide on the criteria you were going to use to give feed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ive me an example of feedback provided that you feel is very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did you already know about the math or about the feedback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hadn’t you thought o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are your next ste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st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are the similarities/differences regarding feedback in the moment vs over ti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s will focus on understanding the additive, multiplicative and generalization concepts in A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explore and consider guidelines when providing effective feedback for the purpose of moving students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understand the relationship between learning goals and effective feed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B795-76AC-4F21-AEBA-79DC18CE7A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4286-9FB0-4F14-892B-0B627B6363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iving Effective Feedback 3 –Unhelpful and Helpful feedba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youtu.be/PRIlnUAKw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ole Group Discu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nk back in life when you were given feedba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did it look like? Sound like? Feel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as it effective or not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 you remember what type of impact it had on you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d it help you move forward in your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y Feedback Practic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41241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ive One Take O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a feedback strategy that you used and found effe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edback strategy you like and add it to your reper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nother partn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eedback Researc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 of the Curve by Anne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Give Effective Feedback to your Students by Susan M. Brook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: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erimet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s is a 3 x 3 grid of squares with only the outside edge sha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you had a 5 x 5 grid of squares where only the outside edge of squares is shaded, how many squares would be sha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you had a 17 x 17 grid of squares with only the outside edge of squares shaded, how many squares would be sha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you had a grid of 100 squares, how many would be sha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4648320" y="1981080"/>
            <a:ext cx="380880" cy="381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4648320" y="2362320"/>
            <a:ext cx="38088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4267080" y="2362320"/>
            <a:ext cx="38124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886200" y="2362320"/>
            <a:ext cx="38088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886200" y="1981080"/>
            <a:ext cx="380880" cy="381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886200" y="1600200"/>
            <a:ext cx="38088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4267080" y="1600200"/>
            <a:ext cx="38124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4648320" y="1600200"/>
            <a:ext cx="38088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different samples and compare students’ algebraic thin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Image Builder</cp:lastModifiedBy>
  <dcterms:modified xsi:type="dcterms:W3CDTF">2011-08-16T17:02:32Z</dcterms:modified>
  <cp:revision>8</cp:revision>
  <dc:subject/>
  <dc:title>&lt;Title&gt;</dc:title>
</cp:coreProperties>
</file>